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3B0D-F17C-4ED8-A45D-1F173BB93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1521-AC25-4A25-B9A6-1C33B4697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3712-E38F-4BFF-9FF8-E47E6027F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2068-81AD-4B89-85A8-DB023F9E6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72D7-F326-4894-BBFD-5F7E69C2C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BC47-F0BC-4496-9132-1EBE360BE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6B15-A871-47F5-9AB8-ABF650DC9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B752-64B4-4F01-85E7-A78E3F08F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1578-8F66-4E56-B5E6-3C3DBC8BD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99AD-3FE2-4AAB-822B-EC58B408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46DE-3305-42D5-9109-C5DA2F2C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DAF2-C36A-4ACA-9726-F53D557A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FB188-F4DB-4C9B-9E42-6834E3E01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DBC92-5C9C-428D-AEF5-616BFB738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1116000" y="620640"/>
            <a:ext cx="732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969696"/>
                </a:solidFill>
                <a:latin typeface="Arial"/>
              </a:rPr>
              <a:t>    </a:t>
            </a:r>
            <a:r>
              <a:rPr b="1" lang="sr-R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ОНФЛИКТ И МЕНАЏМЕНТ КОНФЛИ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"/>
          <p:cNvPicPr/>
          <p:nvPr/>
        </p:nvPicPr>
        <p:blipFill>
          <a:blip r:embed="rId1"/>
          <a:stretch/>
        </p:blipFill>
        <p:spPr>
          <a:xfrm>
            <a:off x="1071720" y="2928960"/>
            <a:ext cx="732780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Е КОНФЛИ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268280"/>
            <a:ext cx="83628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ема њиховим актерима и ниво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 актерим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ликт унутар самог себ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ликт између особ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ликт између груп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 нивоим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ликт унутар самог себ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ликт између особ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ликт између особа и груп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ликт између група и организациј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ликт између организациј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C15E1-93E1-4999-9CE0-E0ECB4814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5126040" y="2852640"/>
            <a:ext cx="2994120" cy="312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Е КОНФЛИ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362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ликт унутар самог себ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нтерперсонални) се дешава у оквиру замишљања себе као личности (циљева, вредности, става, интереса, знања), односно између самог себе и своје улоге (када је особа несигурна који рад треба да изврши, кад су захтеви посла контрадикторни са другим захтевима или када особа очекује да учини више него што је способн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ликте између особ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нтерперсонални) у самој организацији се најчешће појављују због личних/персоналних разлика унутар, али и између група. Често ови конфликти настају због различитог гледања на улогу посла између менаџера и подређени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ликт између особа и груп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најчешће дешава због начина како појединац решава притисак који се врши на њега од стране његове радне груп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54A17-06DC-4CA5-BECC-1847960B2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Е КОНФЛИ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362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ликт између груп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амој организацији је честа врста конфликта. У здравственој установи могу постојати групе сестара, техничара, лекара, специјалиста, администратора, које због својих различитих гледања и специфичности и одговорности могу да доведу до конфлкта у установ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ликти између организациј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 настати због стручно-техничких ривалстава, али и због економских разлога. Овакав конфликт, назван компетиција или ривалство, ствара се када једна од организација развије нове технологије, постиже боље и ефикасније резултате и ефективније ради и користи доступне ресурс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B94A1-020A-4DBB-8945-F0A41AEA2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Е КОНФЛИ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362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</a:t>
            </a:r>
            <a:r>
              <a:rPr b="0" lang="sr-R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нфликти према фаза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</a:t>
            </a:r>
            <a:r>
              <a:rPr b="0" lang="sr-R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нфликти у односу на нивое рада и руковођењ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тикални конфликти настају између различитих нивоа рада и руковођења у организацији. Такви су конфликти најчешће између надређених и подређених, нижег и вишег нивоа менаџмента и сличн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изонтални конфликти настају између појединаца или група у оквиру истог нивоа у организационој хијерархиј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</a:t>
            </a:r>
            <a:r>
              <a:rPr b="0" lang="sr-R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нфликти у односу на карактер конфлик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труктивни конфлик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руктивни конфлик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5FDBC-61D9-4150-9738-8A0FADCD6C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СТИКЕ КОНФЛИКТА У ЗДРАВСТВЕНИМ УСТАНОВАМ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2060280"/>
            <a:ext cx="8362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ак привржености/оданости вишим, односно општим циљеви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адекватна оптиматизација многоструких циље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јасноћа/двосмисленост у основним циљеви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м ра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а пос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ак толеранције двосмисле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ворни одно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омерна специјализација и многоструки ауторите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моћ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8FC4B-6FB0-4DA1-9107-0FD14ACD5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ЕЧАВАЊЕ КОНФЛИ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95280" y="980640"/>
            <a:ext cx="83628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и већи значај и обратити већу пажњу хуманом делу система у организациј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ти циљеве и потребе чланова организације,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не само организациј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ти на смањењу разлика међу “класама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арати климу за разумевање и цењење рада други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жати неформалне норме,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једничке акције и поверењ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ирати 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је могуће више “културу саморегулисања”,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мање “ауторитетом регулисану културу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њити ексцесиван вишак специјализациј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ити власт и утицај на одлучивање са нижим нивоима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вирати и експериментисати са новом праксом и процедурама у ораганизациј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чети интервенције са структурама и процесима у организациј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9B711-5A7A-47B4-98C5-760D527BD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АВАЊЕ КОНФЛИ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125000"/>
            <a:ext cx="83628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 здравствени руководилац приступа решавању конфликт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ћати посебну пажњу на чланове који “праве проблеме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ти на јасно артикулисаној комуникациј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сно дефинисати “надредђени” ци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ати природу унутар завис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хватити и преузети ризик предложених пром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и ауторитет и “власт” кад је потребн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ити деловања “зараћених” стра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ти на изградњи заједничког поверењ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ти на заједничком прихватању сатисфакције и мотивациј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ти на стварању емпатије према другој стран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C6445-70AE-4945-AF80-D27442017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АВАЊЕ КОНФЛИ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125000"/>
            <a:ext cx="83628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 приступ управљања конфликтима укључује следећих пет стилова управљањ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егавање конфлик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торитативно командовањ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лађивање ситуације и прилагођавањ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ажење компромисних решењ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ректно решавање пробле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ABAC2-BF59-4172-A271-ACF7B27ED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АВАЊЕ КОНФЛИ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11280" y="1916280"/>
          <a:ext cx="8229600" cy="3638520"/>
        </p:xfrm>
        <a:graphic>
          <a:graphicData uri="http://schemas.openxmlformats.org/drawingml/2006/table">
            <a:tbl>
              <a:tblPr/>
              <a:tblGrid>
                <a:gridCol w="801720"/>
                <a:gridCol w="1657080"/>
                <a:gridCol w="5770800"/>
              </a:tblGrid>
              <a:tr h="4600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222268"/>
                          </a:solidFill>
                          <a:latin typeface="Times New Roman"/>
                          <a:ea typeface="Times New Roman"/>
                        </a:rPr>
                        <a:t>МОД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222268"/>
                          </a:solidFill>
                          <a:latin typeface="Times New Roman"/>
                          <a:ea typeface="Times New Roman"/>
                        </a:rPr>
                        <a:t>ГЛАВНЕ КАРАКТЕРИСТИ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95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SE-L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ко не постиже жељено и узроци конфликта остају неистражени, а конфликт само делимично или привремено реше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N-L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актеристичан је у случајевима када једна група остварује своје жеље на рачун друге групе, искључујући на тај начин остврење њихових жеља. Ово су чести сучајеви у условима где постоји конкурен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93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N-W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вај метод подразумева директно упуштање у решавање проблема конфликтне ситуације, изналажење правих узрока и доношење оптималне одлу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0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D77B0-1AD6-4476-8117-B6E06D8AF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АВАЊЕ КОНФЛИ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ћи приступ управљања конфликтима узима у обзир његове позитивне стран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ажније методе управљања конфликт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ација конфлик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њење конфлик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авање конфлик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641C5-395F-4CE4-8896-1F4C6C15C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6084720" y="3645000"/>
            <a:ext cx="2676600" cy="17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проучавања овог поглавља ћете бити у могућности 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умете 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нак, врсте и значај конфлик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шете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цесе, фазе и врсте конфлик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жете 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озитивне и негативне аспекте конфлик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шете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рактеристике конфликта у здравственим организација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нтификујете 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енквенце и могућност спречавања конфлик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шете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ступак за управљање/решавање конфкик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B024E-7574-4F94-AD83-115D5C62F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АВАЊЕ КОНФЛИ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ација конфлик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извесним ситуацијама, када конфликт може да буде користан, менаџер може да стимулише конфликт, али да га у исто време држи под контрол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ациони методи најчешће укључују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ођење људи са стран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абдевање информација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труктуирање организациј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ћи ривалств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ор одговарајућих менаџе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ECBEB-EB59-4693-B24A-93CD50C705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АВАЊЕ КОНФЛИ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њење конфлик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AB88A-44D0-4946-A510-BF5DFAC25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АВАЊЕ КОНФЛИ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је конфликт дошао у фазу да свако његово одлагање може произвести озбиљне последице по организацију, примењују се методе решавања конфликта. У том случају мора се радити директно са конфликтним лицима, групам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њују се следећа три конфликтна метод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торитет/власт и обустава/савлађивањ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роми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једничко решавање пробле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CE97E-E524-4A45-9DC8-80B69C82E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НИЦИЈА И ЗНАЧАЈ КОНФЛИКТА ЗА УСТАНО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ликт се може посматрати као облик супротстављања двеју опречних страна; он се заснива на несагласности циљева, жеља или вредности супротних страна…у њему једна страна контролише циљеве и објекте које желе обе стране”.                                                        Stern 197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ликт произилази из неслагања са оп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м циљевима које треба остварити у организацији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танови или са методама које се користе да би се циљеви постигли.                                                         Kenneth W. 197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nis Coon,1986. повезује конфликт са интерперсоналним односима и сматра да је конфликт стање у коме постоје два (или више) јака мотивациона шаблона, који не могу бити задовољени заједно у исто вре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. Stoner and Ch. Wankel, 1986. везује конфлик са функцијом организације и сматра да се конфликт мора посматрати са компетицијом и кооперациј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3"/>
          <p:cNvSpPr/>
          <p:nvPr/>
        </p:nvSpPr>
        <p:spPr>
          <a:xfrm>
            <a:off x="8748720" y="6392880"/>
            <a:ext cx="287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33CAB-0186-4E80-9569-790DFF206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НИЦИЈА И ЗНАЧАЈ КОНФЛИКТА ЗА УСТАНО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Content Placeholder 3" descr=""/>
          <p:cNvPicPr/>
          <p:nvPr/>
        </p:nvPicPr>
        <p:blipFill>
          <a:blip r:embed="rId1"/>
          <a:stretch/>
        </p:blipFill>
        <p:spPr>
          <a:xfrm>
            <a:off x="628560" y="1554120"/>
            <a:ext cx="7581960" cy="4876920"/>
          </a:xfrm>
          <a:prstGeom prst="rect">
            <a:avLst/>
          </a:prstGeom>
          <a:ln w="0">
            <a:noFill/>
          </a:ln>
        </p:spPr>
      </p:pic>
    </p:spTree>
  </p:cSld>
  <p:transition advTm="57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ВРЕМЕНИ ПОГЛЕД НА КОНФЛИ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избежан па чак и потребан, без разлике како су организације установљене и како рад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флик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им делом нефункционалан  и може да штети појединцу, али и да спречи постизање циљева организације. Али, неки конфликти могу бити и функционални, зато што могу да утичу на организацију да она буде ефективниј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тања која траже одговоре и заузимање става према конфликту, могу би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је конфликт у организацији пожељан или непожеља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то се он догађ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је посебан феномен у здравственим организацијам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достиже неку значајност и захтева специјалну пажњ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а здравствени руководилац може да уради на том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говори на ова питања омогићиће руководиоцу да решава или управља конфликтима у својој организацији/устано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8459640" y="6381720"/>
            <a:ext cx="360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BF4CF-3AB3-48E6-982C-9606325A7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ПЕКТИ КОНФЛИКТА: ПОЗИТИВНИ И НЕГАТИВ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ликти су најчешће виђени негативно. Сматрају се штетним, доприносе “нереду у једном систему” и утичу на стварање губитака у хуманим напорима и средствима. Конфликти отежавају, уништавају хумане активности у једној хуманој организациј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валство и конфликт имају продуктиван потенцијал. Они спречавају стагнацију, стимулишу интерес, узнемирују “исто стање”,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ужају прилику за тестирање нечијих могућности и прилику да процене нечију “силу,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агу и моћ”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ликти могу бити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труктивн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због емоционалне нетрпељивости или неслагања са циљевима или методама рад) или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руктивн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ада омогућавају повећање појединачних креативних капацит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8CD3F-0B01-4CF0-BE37-F3A5B6E84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ТИВНИ ЕФЕКТИ КОНФЛИ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5175F-5D72-451F-A547-2176692579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3"/>
          <p:cNvSpPr/>
          <p:nvPr/>
        </p:nvSpPr>
        <p:spPr>
          <a:xfrm>
            <a:off x="395280" y="1844640"/>
            <a:ext cx="271764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ава игнорисаних пробл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4"/>
          <p:cNvSpPr/>
          <p:nvPr/>
        </p:nvSpPr>
        <p:spPr>
          <a:xfrm>
            <a:off x="395280" y="2549520"/>
            <a:ext cx="271764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ље сагледавање супротних стр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5"/>
          <p:cNvSpPr/>
          <p:nvPr/>
        </p:nvSpPr>
        <p:spPr>
          <a:xfrm>
            <a:off x="395280" y="3303720"/>
            <a:ext cx="2691000" cy="610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гледавање нових идеја и присту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9"/>
          <p:cNvSpPr/>
          <p:nvPr/>
        </p:nvSpPr>
        <p:spPr>
          <a:xfrm>
            <a:off x="422280" y="4140360"/>
            <a:ext cx="266400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ност бољих одлу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10"/>
          <p:cNvSpPr/>
          <p:nvPr/>
        </p:nvSpPr>
        <p:spPr>
          <a:xfrm>
            <a:off x="422280" y="5049720"/>
            <a:ext cx="269064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ње лојалосности груп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11"/>
          <p:cNvSpPr/>
          <p:nvPr/>
        </p:nvSpPr>
        <p:spPr>
          <a:xfrm>
            <a:off x="6012000" y="1844640"/>
            <a:ext cx="273672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ечава стагнаци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12"/>
          <p:cNvSpPr/>
          <p:nvPr/>
        </p:nvSpPr>
        <p:spPr>
          <a:xfrm>
            <a:off x="6012000" y="2600280"/>
            <a:ext cx="2736720" cy="525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ише интере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13"/>
          <p:cNvSpPr/>
          <p:nvPr/>
        </p:nvSpPr>
        <p:spPr>
          <a:xfrm>
            <a:off x="6012000" y="3313080"/>
            <a:ext cx="2736720" cy="6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немирује” 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s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14"/>
          <p:cNvSpPr/>
          <p:nvPr/>
        </p:nvSpPr>
        <p:spPr>
          <a:xfrm>
            <a:off x="6012000" y="4140360"/>
            <a:ext cx="273672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ара услове за проме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15"/>
          <p:cNvSpPr/>
          <p:nvPr/>
        </p:nvSpPr>
        <p:spPr>
          <a:xfrm>
            <a:off x="6012000" y="5006880"/>
            <a:ext cx="273672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ља процена могућности “моћи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16"/>
          <p:cNvSpPr/>
          <p:nvPr/>
        </p:nvSpPr>
        <p:spPr>
          <a:xfrm>
            <a:off x="4211640" y="1557360"/>
            <a:ext cx="720720" cy="410364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4103640"/>
              <a:gd name="textAreaBottom" fmla="*/ 4068720 h 4103640"/>
            </a:gdLst>
            <a:ahLst/>
            <a:rect l="textAreaLeft" t="textAreaTop" r="textAreaRight" b="textAreaBottom"/>
            <a:pathLst>
              <a:path w="21600" h="122936">
                <a:moveTo>
                  <a:pt x="3600" y="0"/>
                </a:moveTo>
                <a:arcTo wR="3600" hR="3600" stAng="16200000" swAng="-5400000"/>
                <a:lnTo>
                  <a:pt x="0" y="119336"/>
                </a:lnTo>
                <a:arcTo wR="3600" hR="3600" stAng="10800000" swAng="-5400000"/>
                <a:lnTo>
                  <a:pt x="18000" y="1229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КОНФ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Diagram 1" descr=""/>
          <p:cNvPicPr/>
          <p:nvPr/>
        </p:nvPicPr>
        <p:blipFill>
          <a:blip r:embed="rId1"/>
          <a:stretch/>
        </p:blipFill>
        <p:spPr>
          <a:xfrm>
            <a:off x="304920" y="822240"/>
            <a:ext cx="8534160" cy="5718240"/>
          </a:xfrm>
          <a:prstGeom prst="rect">
            <a:avLst/>
          </a:prstGeom>
          <a:ln w="0">
            <a:noFill/>
          </a:ln>
        </p:spPr>
      </p:pic>
    </p:spTree>
  </p:cSld>
  <p:transition spd="slow" advTm="191000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Е КОНФЛИ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362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ема извору, односно узроку конфли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арни конфликт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 су субјективно изазвани због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ших међуљудских односа у радној групи или организациј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есних лоших/негативних структура лич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агласности у неким значајним ситуацијама (ставови, мишљења, интереси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ундарни конфликт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 они који су најчешће објективно детерминисани услед разних организационих, технолошких или економских проблем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DE597-C6FB-4A06-9BD6-2AABEA731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4T09:12:54Z</dcterms:created>
  <dc:creator>Banka</dc:creator>
  <dc:description/>
  <dc:language>en-US</dc:language>
  <cp:lastModifiedBy>Majda</cp:lastModifiedBy>
  <dcterms:modified xsi:type="dcterms:W3CDTF">2020-09-20T10:34:41Z</dcterms:modified>
  <cp:revision>128</cp:revision>
  <dc:subject/>
  <dc:title>Slide 1</dc:title>
</cp:coreProperties>
</file>